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AE9-C12C-4EE8-93BC-CF68655C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2BA-D3BD-4648-903F-E48499C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46E-84B5-4CEB-BFE8-43C7CF1A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C53-5462-41C6-A008-DFF77DF2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AA3-36CA-44FB-A3E2-39FA9EC4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B73-1A1B-42D3-8C9B-5FC64048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6C41-207E-4B46-961C-F7D99CE8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E42-573B-4CA0-8817-29F212CD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C504-2AE7-4987-A59C-2DB44AB8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62B-88BC-4745-8E38-D545305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1BA-005A-41C2-92FA-15609CE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DF5-1D50-43E1-AADC-AD4947B7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A45-4563-429E-8E68-3EB9D99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3A87-97F9-4FD7-96C1-AB4DAF0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E9B1-8DC8-4C4B-9E93-049338B1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CD7-2E2A-49C1-B8A4-4D56DF1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67C9-96B8-4956-AFF5-3052433A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99D-8C95-4DA7-8547-8640E226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D59-EBAA-4894-8F38-62BFFB0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221-F2C2-4B1A-BCC4-8CD7F7A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14D-D879-4B90-A29F-59E243E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119-4A42-4818-B188-A0A3396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6C1-74FB-439E-BEE4-6648DA0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9D9-8C8A-4516-B7B6-4E1B6AA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DF0-6488-47D9-8EB9-AD1605426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729-EF36-42D6-83E9-023F5A7B0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tor.com.my/stpm/variasi_bahasa.htm" TargetMode="External"/><Relationship Id="rId2" Type="http://schemas.openxmlformats.org/officeDocument/2006/relationships/hyperlink" Target="http://cyberita.asia1.com.sg/singapura/story/0,3617,164649,00.html" TargetMode="External"/><Relationship Id="rId3" Type="http://schemas.openxmlformats.org/officeDocument/2006/relationships/hyperlink" Target="http://www.cybermelayu.com/newriang/informasi/informasi_10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95280" y="2057400"/>
            <a:ext cx="7086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blem Based Learn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nario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My Malay is not good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engakuan ini sememangnya tidak mustahil kal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diucapkan seorang yang bukan berbangsa Melay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ebagai seorang warga Malaysia, kamu ag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erkejut apabila mendapat tahu pengakuan 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capkali digunakan oleh bangsa Melayu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ingap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57200"/>
            <a:ext cx="8915400" cy="6400800"/>
          </a:xfrm>
          <a:prstGeom prst="cloudCallout">
            <a:avLst>
              <a:gd name="adj1" fmla="val -35203"/>
              <a:gd name="adj2" fmla="val 314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amu dan rakan-rakan k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ganggap ia merupakan satu masalah yang genting di kalangan masyarakat Melayu di Singapura. Jika masalah ini berlarutan, ia akan menyebabkan bahasa ibunda pupus ditelan arus m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amu bercadang untuk mengkaji inti penyebab masalah ini dan ingin menyarankan kepada pihak Lembaga Kesatuan Melayu cara-cara dapat melestarikan Bahasa Melay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ipetik dari Berita Harian, April 201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6189" t="0" r="15254" b="27758"/>
          <a:stretch/>
        </p:blipFill>
        <p:spPr>
          <a:xfrm>
            <a:off x="4343400" y="1523880"/>
            <a:ext cx="4645080" cy="4948200"/>
          </a:xfrm>
          <a:prstGeom prst="rect">
            <a:avLst/>
          </a:prstGeom>
          <a:ln w="76320">
            <a:solidFill>
              <a:srgbClr val="0101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77122" r="43501" b="0"/>
          <a:stretch/>
        </p:blipFill>
        <p:spPr>
          <a:xfrm>
            <a:off x="0" y="2211480"/>
            <a:ext cx="4799160" cy="3046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0880" y="533520"/>
            <a:ext cx="7840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rlin Sans FB Demi"/>
              </a:rPr>
              <a:t>Kaj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66680"/>
            <a:ext cx="8686800" cy="53341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108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mu akan memulakan ekspedisi kamu dengan memikirkan beberapa soalan untuk memandu kajian kamu nant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5867640" cy="1447920"/>
          </a:xfrm>
          <a:prstGeom prst="cloudCallout">
            <a:avLst>
              <a:gd name="adj1" fmla="val -56657"/>
              <a:gd name="adj2" fmla="val 7094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perbezaan kehidupan orang Melayu di Singapura dan orang Melayu di Malays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5867280" cy="1447920"/>
          </a:xfrm>
          <a:prstGeom prst="cloudCallout">
            <a:avLst>
              <a:gd name="adj1" fmla="val 58685"/>
              <a:gd name="adj2" fmla="val 9035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ongan yang mana selalu mengatakan mereka ‘kurang mahir’ dalam Bahasa Melay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52680"/>
            <a:ext cx="5867280" cy="1752840"/>
          </a:xfrm>
          <a:prstGeom prst="cloudCallout">
            <a:avLst>
              <a:gd name="adj1" fmla="val -51949"/>
              <a:gd name="adj2" fmla="val 874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aimanakah lenggok percakapan orang Melayu di Singapura? Bahasa Inggeris atau Bahasa Campu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800600"/>
            <a:ext cx="5867640" cy="1752480"/>
          </a:xfrm>
          <a:prstGeom prst="cloudCallout">
            <a:avLst>
              <a:gd name="adj1" fmla="val 56412"/>
              <a:gd name="adj2" fmla="val 5561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sebab yang menyebabkan mereka ‘malu’ bertutur dalam bahasa Melayu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nduan Kajian Kam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tutor.com.my/stpm/variasi_bahasa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cyberita.asia1.com.sg/singapura/story/0,3617,164649,0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cybermelayu.com/newriang/informasi/informasi_10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bmuks.org/ms/2009/01/19/kalau-hendak-melentur-buluh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uga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lisk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rat ras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pada Pengerusi Lembaga Bahasa Melayu Singapura untuk mengemukakan masalah pertuturan dalam Bahasa Melayu di Singap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at kamu juga haru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mberi saran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pada pihak beliau cara-cara dapat menggalakkan pertuturan yang baik dalam bahasa Melayu terutamanya di sekol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at kamu mestilah dilihat dari sudut pandangan bangsa Cina yang mahir bertutur dalam bahasa Melay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4:03:22Z</dcterms:created>
  <dc:creator>nurashikin</dc:creator>
  <dc:description/>
  <dc:language>en-US</dc:language>
  <cp:lastModifiedBy>nurashikin</cp:lastModifiedBy>
  <dcterms:modified xsi:type="dcterms:W3CDTF">2010-05-26T04:57:31Z</dcterms:modified>
  <cp:revision>2</cp:revision>
  <dc:subject/>
  <dc:title>Slide 1</dc:title>
</cp:coreProperties>
</file>